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7AF-F594-4CA2-9DE6-450B9940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FE4-6B3C-4F3C-AD4D-BAE72FD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3E0-A52F-4972-AB6E-C4E24082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833-0263-4546-9020-F49C0EBE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144-4C8C-4684-83C5-49B33F31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3E0-8A28-4A5E-9D1E-E5F5452F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A76-EF2A-489E-970B-7159FF9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040-DCA0-4149-BD79-5E466B40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EDB-A7B9-41F2-A255-D63D701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BF7-7169-418C-B979-1D632D5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091-6E02-4FD5-B3BB-85D17F7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131-A50B-41D9-829B-064DA392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60E-465B-4AC4-9AB6-0921FD2AD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mals are diverse, but they have basic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haracteris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n comm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re made of many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mal cells hav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organ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depend on other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v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ings in the environment for f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dige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heir f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st animals ca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reproduc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exually; some can also reproduce asexua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daptation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rom previous generations help individuals survive and reprodu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sic adaptation is obtain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rbivo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t 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nivo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t only other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mals that eat both plants and animals a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mniv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ritivores such as beetles and millipedes ea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ay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tter called detr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daptations help animals surv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v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vering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uch as shells or quills help protect animals from predat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rg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rotects some anim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mic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r camoflage helps other animals blend into the environment or confuse predat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moufl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an adaptation for predators so they can sneak up on their pre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havior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daptations can help animals surv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animals 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mic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discourage pred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lows some animals to outrun pred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velling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assist both predators and pr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imals ar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assifi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based on similar character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tebrat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ave a backbone;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vertebrat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o not have a backb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mmetr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how an animal’s body parts are arran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ymmetr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imals do not have a definite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ad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ymmetry have parts arranged in a circle around a center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ater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metry have halves that are nearly mirror imag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Sym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biologycorner.com/resources/symmetry_comparison.gif"/>
          <p:cNvPicPr/>
          <p:nvPr/>
        </p:nvPicPr>
        <p:blipFill>
          <a:blip r:embed="rId1"/>
          <a:stretch/>
        </p:blipFill>
        <p:spPr>
          <a:xfrm>
            <a:off x="2209680" y="1714680"/>
            <a:ext cx="45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cpborja.educa.aragon.es/pdigital/kidspiration/kidspics/Vertebrates%20and%20Invertebrates.jpg"/>
          <p:cNvPicPr/>
          <p:nvPr/>
        </p:nvPicPr>
        <p:blipFill>
          <a:blip r:embed="rId1"/>
          <a:stretch/>
        </p:blipFill>
        <p:spPr>
          <a:xfrm>
            <a:off x="914400" y="0"/>
            <a:ext cx="779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23:21Z</dcterms:created>
  <dc:creator>student</dc:creator>
  <dc:description/>
  <dc:language>en-US</dc:language>
  <cp:lastModifiedBy>student</cp:lastModifiedBy>
  <dcterms:modified xsi:type="dcterms:W3CDTF">2008-09-19T17:54:52Z</dcterms:modified>
  <cp:revision>5</cp:revision>
  <dc:subject/>
  <dc:title>Slide 1</dc:title>
</cp:coreProperties>
</file>